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E352-D781-480B-857E-4C70716DC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E737-49CA-41A6-B1CE-90D59956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9B3A-C209-4474-9D98-207914C2E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21B1-BDD6-41CE-AB5E-8BDA30515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0211-A14F-4A23-A773-87EF4E90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7060-31C6-4813-AC74-BB7A6129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15F6-7F9A-4556-8AE9-99890CBD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0153-7B30-4A9A-A7D1-894C8D43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79C1-48F4-47A3-B13F-4FCF97E8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4664-8F93-42BD-8832-AAEFD002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713F-5A8C-4206-AA67-DBDCB535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846E-13DB-4324-A86F-372FD3E0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43EF-F852-4454-8215-B3A277B1778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1079640" cy="1260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0" y="71280"/>
            <a:ext cx="9144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ATC ROBO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0" y="8571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600" spc="-1" strike="noStrike">
                <a:solidFill>
                  <a:srgbClr val="ffffff"/>
                </a:solidFill>
                <a:latin typeface="Calibri"/>
                <a:cs typeface="Cordia New"/>
              </a:rPr>
              <a:t>วิทยาลัยเทคนิคสัตหี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2206800" y="1428840"/>
            <a:ext cx="107928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407196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592920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770724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320760" y="3049560"/>
            <a:ext cx="4680000" cy="28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Calibri"/>
              </a:rPr>
              <a:t>รูปหุ่นยนต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5214960" y="3071880"/>
            <a:ext cx="3600360" cy="21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alibri"/>
              </a:rPr>
              <a:t>รูป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14292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เสกสรร  ศรีจันทร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6"/>
          <p:cNvSpPr/>
          <p:nvPr/>
        </p:nvSpPr>
        <p:spPr>
          <a:xfrm>
            <a:off x="75009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นิรนาม  สังข์เทีย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5715000" y="2714760"/>
            <a:ext cx="1500120" cy="641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นายธัญลักษณ์  นามวงษ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8"/>
          <p:cNvSpPr/>
          <p:nvPr/>
        </p:nvSpPr>
        <p:spPr>
          <a:xfrm>
            <a:off x="3857760" y="2714760"/>
            <a:ext cx="1500120" cy="459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ปภาวิชญ์   ศรีบริสุทธิ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9"/>
          <p:cNvSpPr/>
          <p:nvPr/>
        </p:nvSpPr>
        <p:spPr>
          <a:xfrm>
            <a:off x="20001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อภินันท์  วัลลิสุ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52440" y="1441440"/>
          <a:ext cx="1079640" cy="12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2440" y="1441440"/>
                    <a:ext cx="107964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216400" y="3087720"/>
          <a:ext cx="3594240" cy="21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6400" y="3087720"/>
                    <a:ext cx="359424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195640" y="1413000"/>
            <a:ext cx="111420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067280" y="1413000"/>
            <a:ext cx="1109520" cy="1295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7686720" y="1413000"/>
            <a:ext cx="1114560" cy="1295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5911920" y="1413000"/>
            <a:ext cx="1111320" cy="1295280"/>
          </a:xfrm>
          <a:prstGeom prst="rect">
            <a:avLst/>
          </a:prstGeom>
          <a:ln w="0">
            <a:noFill/>
          </a:ln>
        </p:spPr>
      </p:pic>
      <p:pic>
        <p:nvPicPr>
          <p:cNvPr id="63" name="รูปภาพ 7" descr="Assem1.JPG"/>
          <p:cNvPicPr/>
          <p:nvPr/>
        </p:nvPicPr>
        <p:blipFill>
          <a:blip r:embed="rId10"/>
          <a:srcRect l="0" t="0" r="0" b="-80"/>
          <a:stretch/>
        </p:blipFill>
        <p:spPr>
          <a:xfrm>
            <a:off x="380880" y="3059280"/>
            <a:ext cx="4608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2:38:21Z</dcterms:created>
  <dc:creator>pymta</dc:creator>
  <dc:description/>
  <dc:language>en-US</dc:language>
  <cp:lastModifiedBy>seksan</cp:lastModifiedBy>
  <dcterms:modified xsi:type="dcterms:W3CDTF">2009-10-02T07:43:36Z</dcterms:modified>
  <cp:revision>38</cp:revision>
  <dc:subject/>
  <dc:title>Slide 1</dc:title>
</cp:coreProperties>
</file>